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D22-D96C-4E67-A164-61D79098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4BF-E79E-46EB-A7BA-54737B8E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9E1-C50B-4CC9-83A2-F1928778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8D8-7D68-4EE0-8E20-B5A95A7B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EEA-5970-4538-832D-B0CF939E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67D-B762-4969-91ED-02D94C8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924-C190-4CC1-A067-67836DC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086-AD78-4796-B805-A852C31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4BA-BE34-453A-B060-EE34FCD3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059-6B83-42B9-8C04-DADC9009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BB7-0045-404A-AD13-6863085F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6FD-F13E-4E7A-8954-EEA9215D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F79C-3641-4965-B3D4-C06C6026CC8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6.6 Health Impairing Behavi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nthrop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hropologists have tended to focus on two aspects of human heal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omestic Scale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mall kinship based societies in which production and distribution of goods is organized on a household b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nthrop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2.  Industrialized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tatus of health among people in industrialized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bserved that declining social cohesion and growing stress, lead to an increase in the incidence of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amine the ways in which social structures, allocation of resources, and social practices affect overall h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activity, fast food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ists ask: what can society do about the situ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udies show that we must shift away from the medical interventio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ould be replaced by the health promotio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y and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cus is on health and wellness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lieve that individual factors related to the patient, rather than the societal factors can best explain why people become 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mula Feeding vs Breast Feed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hrop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lderly and 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linical Psyc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ssu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enage smo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22:59Z</dcterms:created>
  <dc:creator>Jason</dc:creator>
  <dc:description/>
  <dc:language>en-US</dc:language>
  <cp:lastModifiedBy>Jason</cp:lastModifiedBy>
  <dcterms:modified xsi:type="dcterms:W3CDTF">2011-01-05T17:22:33Z</dcterms:modified>
  <cp:revision>3</cp:revision>
  <dc:subject/>
  <dc:title>6.6 Health Impairing Behaviours</dc:title>
</cp:coreProperties>
</file>